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3.png" ContentType="image/png"/>
  <Override PartName="/ppt/media/image55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10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1.png" ContentType="image/png"/>
  <Override PartName="/ppt/media/image49.png" ContentType="image/png"/>
  <Override PartName="/ppt/media/image56.gif" ContentType="image/gif"/>
  <Override PartName="/ppt/media/image52.png" ContentType="image/png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1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0A0-BA36-48EF-BBD6-A8128993DAC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9B76-0275-4E1A-872F-EE7F12AB125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08D-8BA2-429D-A017-DF8436B6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0C6-4B24-4C60-A749-95508124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9D7-4586-423F-8303-D9620204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839-F4F7-40C9-AE1E-7A5FCAEA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07B-1BD9-45D2-B00A-DB987E38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725-CF56-4981-8979-76ADDD5A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669-7B8A-456B-A7C8-877F90EB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1D9-D7F9-452F-A314-14EABF0D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3EC-229B-43F9-86DD-3D39A6DE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97D-43DB-44CC-AD7E-CA26807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B09-CC99-4604-A099-245D6F6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85E-0F3A-44B8-BBFE-841AD8D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BAF1-6710-4CA8-8DDE-58DF315C5AF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o dijagnostika periodoncijuma i zuba, stečene promene, zapaljenja i karij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e3ebf1"/>
                </a:solidFill>
                <a:latin typeface="Arial"/>
              </a:rPr>
              <a:t>Prof dr Milan Mijailov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Leon"/>
          <p:cNvPicPr/>
          <p:nvPr/>
        </p:nvPicPr>
        <p:blipFill>
          <a:blip r:embed="rId1"/>
          <a:stretch/>
        </p:blipFill>
        <p:spPr>
          <a:xfrm>
            <a:off x="2627280" y="4005360"/>
            <a:ext cx="3960720" cy="230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icture 6" descr="tuch"/>
          <p:cNvPicPr/>
          <p:nvPr/>
        </p:nvPicPr>
        <p:blipFill>
          <a:blip r:embed="rId2">
            <a:grayscl/>
            <a:lum contrast="36000"/>
          </a:blip>
          <a:stretch/>
        </p:blipFill>
        <p:spPr>
          <a:xfrm>
            <a:off x="4067280" y="4076640"/>
            <a:ext cx="1328760" cy="4525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4284720" y="638172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3ebf1"/>
                </a:solidFill>
                <a:latin typeface="Arial"/>
              </a:rPr>
              <a:t>MM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ccff"/>
                </a:solidFill>
                <a:latin typeface="Arial"/>
              </a:rPr>
              <a:t>Karijes zuba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fektivna bolest koju karakteriše progresivna destrukcija čvrstih zubnih tkiva. Sreće se u oko 95% populacije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Inicijalno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mikroorganizmi prisutni u plaku fermentiraju šećere (saharozu, glukozu, fruktozu) povećavajući kiselost (ispod pH 5,5) dovodeći do demineralizacije, najpre gleđ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l.slika   prebojavanje površine gleđi ispod pla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1332000" y="2349360"/>
            <a:ext cx="2663640" cy="2303640"/>
            <a:chOff x="1332000" y="2349360"/>
            <a:chExt cx="2663640" cy="2303640"/>
          </a:xfrm>
        </p:grpSpPr>
        <p:sp>
          <p:nvSpPr>
            <p:cNvPr id="86" name="Rectangle 7"/>
            <p:cNvSpPr/>
            <p:nvPr/>
          </p:nvSpPr>
          <p:spPr>
            <a:xfrm>
              <a:off x="1469520" y="2349360"/>
              <a:ext cx="2400480" cy="23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Picture 5" descr="karijes%20dijagram"/>
            <p:cNvPicPr/>
            <p:nvPr/>
          </p:nvPicPr>
          <p:blipFill>
            <a:blip r:embed="rId1"/>
            <a:stretch/>
          </p:blipFill>
          <p:spPr>
            <a:xfrm>
              <a:off x="1332000" y="2442960"/>
              <a:ext cx="2663640" cy="21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9" descr="190px-Karies"/>
          <p:cNvPicPr/>
          <p:nvPr/>
        </p:nvPicPr>
        <p:blipFill>
          <a:blip r:embed="rId2"/>
          <a:stretch/>
        </p:blipFill>
        <p:spPr>
          <a:xfrm>
            <a:off x="4572000" y="2708280"/>
            <a:ext cx="263376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3789000"/>
            <a:ext cx="807552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očetna lezij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stvaranjem međukristalnih prostora gleđ gubi čvrstinu, bakterije prodiru stvarajući mikroskop. a zatim i makroskop. vidljive šuplj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smanjenje gustine tkiva se manifestuje </a:t>
            </a: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rasvetljenjem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koje je oštro ili </a:t>
            </a: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neoštro ograničeno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od oko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Pit-and-Fissure-Caries-GIF"/>
          <p:cNvPicPr/>
          <p:nvPr/>
        </p:nvPicPr>
        <p:blipFill>
          <a:blip r:embed="rId1"/>
          <a:stretch/>
        </p:blipFill>
        <p:spPr>
          <a:xfrm>
            <a:off x="6012000" y="620640"/>
            <a:ext cx="146520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50px-Interproximaldecayfiltered08-16-2006"/>
          <p:cNvPicPr/>
          <p:nvPr/>
        </p:nvPicPr>
        <p:blipFill>
          <a:blip r:embed="rId2"/>
          <a:stretch/>
        </p:blipFill>
        <p:spPr>
          <a:xfrm>
            <a:off x="1692360" y="1125360"/>
            <a:ext cx="287964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3429000"/>
            <a:ext cx="80755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Krunice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ršini sa koje polaz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buk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ora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okluz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može da se previdi prekrivanjem lezije tamninom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vržica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proksimalna površi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klinički dugo nezapaž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19528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2"/>
          <a:srcRect l="2202" t="0" r="0" b="3483"/>
          <a:stretch/>
        </p:blipFill>
        <p:spPr>
          <a:xfrm>
            <a:off x="971640" y="907920"/>
            <a:ext cx="4390920" cy="21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ema postranstvu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superficialis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okalizovan u gleđi, rasvetljenje oštre ko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medi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ezija dublje prodire u dentin i cement neoštro ograničena i slojem zdravog odvojena od pul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rofund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ezija neoštre konture u bliskom kontaktu ali jasno odvojena od zubne duplj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rofunda complicat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kariozna lezija komunicira sa zubnom dupl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7983"/>
          <a:stretch/>
        </p:blipFill>
        <p:spPr>
          <a:xfrm>
            <a:off x="5945040" y="260280"/>
            <a:ext cx="274500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75904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370320" y="260280"/>
            <a:ext cx="243684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ata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lično aproksimalnom karijesu može najpre biti zapažen na retrokoronarnim radiogramima, naročito ako je lokalizacija ispod ging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.Dg.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gleđno-cementni prelaz, koji je obostrano i difuzno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svetljenj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226120" y="260280"/>
            <a:ext cx="29462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6" descr=""/>
          <p:cNvPicPr/>
          <p:nvPr/>
        </p:nvPicPr>
        <p:blipFill>
          <a:blip r:embed="rId2"/>
          <a:srcRect l="0" t="0" r="0" b="3188"/>
          <a:stretch/>
        </p:blipFill>
        <p:spPr>
          <a:xfrm>
            <a:off x="2411280" y="260280"/>
            <a:ext cx="263700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Korena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videti tek na retroalveolarnim radiogramima, u uslovima normalnog odnosa korena i alveolarnog nastav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.Dg.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spoljašnja bočna resorpcija korena je rastapanje cementa koja je polukružnog oblika i oštro ograničena usled pritiska neizniklog zuba, odontogenog tu, ciste, i s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0" r="0" b="3199"/>
          <a:stretch/>
        </p:blipFill>
        <p:spPr>
          <a:xfrm>
            <a:off x="5292720" y="260280"/>
            <a:ext cx="32241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4390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640" y="907560"/>
            <a:ext cx="396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3ebf1"/>
                </a:solidFill>
                <a:latin typeface="Arial"/>
              </a:rPr>
              <a:t>Prima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ezija lokalizovana na do tada intaktnom zubu i nije u neposrednoj vezi sa stomatološkim rad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3ebf1"/>
                </a:solidFill>
                <a:latin typeface="Arial"/>
              </a:rPr>
              <a:t>Sekunda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ariozna lezija koja se nalazi uz privremeni ili stalni dentalni ispun, protetsku krunicu, ili neku drugu stom. nadoknad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210168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8" descr="ortopan 2"/>
          <p:cNvPicPr/>
          <p:nvPr/>
        </p:nvPicPr>
        <p:blipFill>
          <a:blip r:embed="rId2"/>
          <a:srcRect l="51501" t="25360" r="22116" b="2157"/>
          <a:stretch/>
        </p:blipFill>
        <p:spPr>
          <a:xfrm>
            <a:off x="5292720" y="3284640"/>
            <a:ext cx="230508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ccff"/>
                </a:solidFill>
                <a:latin typeface="Arial"/>
              </a:rPr>
              <a:t>Zapaljenja periodoncijum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68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zro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ubni karijes, ekstrakcija zuba, (ređe) traume vilica,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hematogene infekcije iz udaljenih žariš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dukti nekroze zubne pulpe i infektivni agensi mogu prodirati u periapikalno tkivo. Od odnosa virulencije mikroorganizama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             i odbrambenih snaga organizma zavisi dalji razvitak proc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kutni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osteitis, abs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Hronični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periapikalni granulom, radikularna cis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parodontit"/>
          <p:cNvPicPr/>
          <p:nvPr/>
        </p:nvPicPr>
        <p:blipFill>
          <a:blip r:embed="rId1"/>
          <a:stretch/>
        </p:blipFill>
        <p:spPr>
          <a:xfrm>
            <a:off x="6012000" y="3789360"/>
            <a:ext cx="257148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pikalni periodontitis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paljenska reakcija periodontalnog l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akterije iz korenog kanala, traumatskim putem iz spoljašnje sredine, trauma zuba, visoka plomba koja remeti oluziju, strano telo utisnuto između zub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 predelu vrha korena neznatno proširenje periodontalne lin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rcRect l="0" t="0" r="0" b="741"/>
          <a:stretch/>
        </p:blipFill>
        <p:spPr>
          <a:xfrm>
            <a:off x="826920" y="1600200"/>
            <a:ext cx="3600720" cy="449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Rectangle 12"/>
          <p:cNvSpPr/>
          <p:nvPr/>
        </p:nvSpPr>
        <p:spPr>
          <a:xfrm>
            <a:off x="82908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Ch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ekvela akutnog zapaljenja, dugotrajna slaba inflamatorna reakcij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širenje periodontalne linije, povećana transparentnost kosti oko korena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290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8"/>
          <p:cNvSpPr/>
          <p:nvPr/>
        </p:nvSpPr>
        <p:spPr>
          <a:xfrm>
            <a:off x="902160" y="587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ccff"/>
                </a:solidFill>
                <a:latin typeface="Arial"/>
              </a:rPr>
              <a:t>Parodontopatij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boljenje potpornog aparata zuba (gingive, alveolarne kosti, cementa korena zuba i periodoncijum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75% odraslih boluj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40% starijih od 50 g. ima izražene znake zapalje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8" descr="parodontopatija2"/>
          <p:cNvPicPr/>
          <p:nvPr/>
        </p:nvPicPr>
        <p:blipFill>
          <a:blip r:embed="rId1"/>
          <a:stretch/>
        </p:blipFill>
        <p:spPr>
          <a:xfrm>
            <a:off x="1476360" y="3860640"/>
            <a:ext cx="1800360" cy="15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10" descr="parodontopatija1"/>
          <p:cNvPicPr/>
          <p:nvPr/>
        </p:nvPicPr>
        <p:blipFill>
          <a:blip r:embed="rId2"/>
          <a:stretch/>
        </p:blipFill>
        <p:spPr>
          <a:xfrm>
            <a:off x="3348000" y="3860640"/>
            <a:ext cx="1728720" cy="15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2" descr="parodontopatija5"/>
          <p:cNvPicPr/>
          <p:nvPr/>
        </p:nvPicPr>
        <p:blipFill>
          <a:blip r:embed="rId3"/>
          <a:stretch/>
        </p:blipFill>
        <p:spPr>
          <a:xfrm>
            <a:off x="5148360" y="3860640"/>
            <a:ext cx="2160360" cy="158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Rectangle 13"/>
          <p:cNvSpPr/>
          <p:nvPr/>
        </p:nvSpPr>
        <p:spPr>
          <a:xfrm>
            <a:off x="2486160" y="54450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lag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rednje tešk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teš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eriapikalni absces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kada periapikalni proces zadobije supurativnu formu (nekroza i stvaranje gnoja) unutar periodontalnog proc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icijalna faza nema znakova promene na kos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zvojna faza prošireniji periodontalni prostor i povećana transparentnost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6007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Rectangle 7"/>
          <p:cNvSpPr/>
          <p:nvPr/>
        </p:nvSpPr>
        <p:spPr>
          <a:xfrm>
            <a:off x="90216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Ch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ledi kao nastavak akutnog. Ukoliko nije lečen formira se fistulozni kanal kojim se gnoj drenira prema oralnoj mukozi ili kož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ko korena zuba neoštro ograničena zona povećane transparent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jačana skleroza okol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Fistulozni kanal trakasto rasvetljenje od periodoncijuma put površi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8"/>
          <p:cNvSpPr/>
          <p:nvPr/>
        </p:nvSpPr>
        <p:spPr>
          <a:xfrm>
            <a:off x="54180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eriapikalni granulom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6007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je najčešći odgovor periapikalnog tkiva na hronična infekcija koja se prolongi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ranulomatozno tkivo je okruženo kapsulom (unutrašnji sloj od rastresitog veziva i krv.sudova; spoljašnji sloj fibrozni nastavlja na periodontalni l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o 1,6 cm ovalno rasvetljenja periapikalne kosti, oštro ograničeno sa prekidom lamine d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adikularna cist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iz periapikalnog granuloma proliferacijom epitelnih ćel. koje degenerišu i stvaraju šupljinu ispunjenu tečnošću. (M. maxi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ko apeksa ili akcesornog kan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valna, oštro ograničena, oivičena linijskom senkom hiperostotske reakc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1,6 - 10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76720" cy="27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8a4b"/>
                </a:solidFill>
                <a:latin typeface="Arial"/>
              </a:rPr>
              <a:t>maxill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88764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Rectangle 8"/>
          <p:cNvSpPr/>
          <p:nvPr/>
        </p:nvSpPr>
        <p:spPr>
          <a:xfrm>
            <a:off x="3710520" y="306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1, 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824616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038480" cy="290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468a4b"/>
                </a:solidFill>
                <a:latin typeface="Arial"/>
              </a:rPr>
              <a:t>mandibula</a:t>
            </a:r>
            <a:r>
              <a:rPr b="0" i="1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57416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48624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Rectangle 17"/>
          <p:cNvSpPr/>
          <p:nvPr/>
        </p:nvSpPr>
        <p:spPr>
          <a:xfrm>
            <a:off x="4505040" y="544500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zvađen zaostali ko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37500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ficiran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eoštro ogranič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eriodontalna membrana prošir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f.D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ameloblastom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igantocelularni granulom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eratoc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8894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Rectangle 12"/>
          <p:cNvSpPr/>
          <p:nvPr/>
        </p:nvSpPr>
        <p:spPr>
          <a:xfrm>
            <a:off x="399780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566160" y="587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ccff"/>
                </a:solidFill>
                <a:latin typeface="Arial"/>
              </a:rPr>
              <a:t>Stečeni defekti na zubim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tri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braz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roz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orp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ekundarni den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ulpol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kleroza pul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Hipercement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orpcija alveolarne k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tric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0" t="0" r="0" b="2326"/>
          <a:stretch/>
        </p:blipFill>
        <p:spPr>
          <a:xfrm>
            <a:off x="826920" y="1600200"/>
            <a:ext cx="3600720" cy="398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trošenje zuba kao posledica okluzalnog kontakta među zubima u toku fiziološkog žvaka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hvata nekoliko susednih zuba, počinje trošenjem gleđi i otkrivanjem dentina, skleroza na zidovima zubne duplje (sek. dentin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može biti praćen gubitkom alveolarne kosti, proširenjem periodontalne linije i hipercementoz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braz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efiziološko trošenje zubnog tkiva (neadekvatno pranje četkicom, konac, čačkal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lumesečasti defekti u nivou vrata na aproksimalnim površinama jače na distalnoj u odnosu na mezijalnu stra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200px-Toothbrush_20050716_004"/>
          <p:cNvPicPr/>
          <p:nvPr/>
        </p:nvPicPr>
        <p:blipFill>
          <a:blip r:embed="rId1"/>
          <a:stretch/>
        </p:blipFill>
        <p:spPr>
          <a:xfrm>
            <a:off x="611280" y="3645000"/>
            <a:ext cx="223200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10" descr="180px-Dental_floss_(whole)"/>
          <p:cNvPicPr/>
          <p:nvPr/>
        </p:nvPicPr>
        <p:blipFill>
          <a:blip r:embed="rId2"/>
          <a:stretch/>
        </p:blipFill>
        <p:spPr>
          <a:xfrm>
            <a:off x="1692360" y="1773360"/>
            <a:ext cx="228600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pubertetsk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Javlja se za vreme i neposredno posle nicanja prvih zub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ni gubitak zuba (do 2g.) koji može da zahvati i stalnu denticij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dak; Ž; genetski osnov i serumska antitela (na Capnocytophaga sputigena, Eikenela corrode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graničeni i slabije izraženi kl.simpto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estrukcija alveolarne kosti samo oko pojedinih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Gener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extremno izraženo zapaljenje marginalne i pripojne gingive. Koja razvojem bolesti spontano povlači ka apeksim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gresivna destrukcija alveolarne kosti, resorpcija koren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Zahnfleischentzuendung"/>
          <p:cNvPicPr/>
          <p:nvPr/>
        </p:nvPicPr>
        <p:blipFill>
          <a:blip r:embed="rId1"/>
          <a:stretch/>
        </p:blipFill>
        <p:spPr>
          <a:xfrm>
            <a:off x="2484360" y="4653000"/>
            <a:ext cx="1943280" cy="13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11" descr="Zahnfleischbluten"/>
          <p:cNvPicPr/>
          <p:nvPr/>
        </p:nvPicPr>
        <p:blipFill>
          <a:blip r:embed="rId2"/>
          <a:stretch/>
        </p:blipFill>
        <p:spPr>
          <a:xfrm>
            <a:off x="395280" y="4653000"/>
            <a:ext cx="1944720" cy="133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Eroz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ubitak supstance zuba dejstvom najčešće jakih kiselina (učestalo povraćan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ubi glatki i slajni najčešće na palatinalnim stranama zuba u gornjoj vil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erozije kao defekti oštrih kon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erozija kis"/>
          <p:cNvPicPr/>
          <p:nvPr/>
        </p:nvPicPr>
        <p:blipFill>
          <a:blip r:embed="rId1"/>
          <a:stretch/>
        </p:blipFill>
        <p:spPr>
          <a:xfrm>
            <a:off x="1332000" y="1628640"/>
            <a:ext cx="216540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esorpc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2338560" cy="29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počinje vaskularnim promenama sa stvaranjem granulacionog tkiva i transformacijom makrofaga u gigantske odontoklas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icirani su acc. traumom, pulpotomijom invaginaciom gleđi, polipozom pul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Spoljašnje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iz pravca pul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Unutrašnj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iz pravca zubne duplje ili korena, ovalno rasvetlje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2"/>
          <a:srcRect l="0" t="0" r="0" b="3965"/>
          <a:stretch/>
        </p:blipFill>
        <p:spPr>
          <a:xfrm>
            <a:off x="2290680" y="1484280"/>
            <a:ext cx="21369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Sekundarni dentin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eponuje se u zubnoj duplji nakon završetka stvaranja primarnog dent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dejstvom stimulusa prilikom žvakanja ili blagim trauma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dukcija veličine zubne duplje ili korenog kanala (lok., difusno), vizuelno se ne razlikuje od prom.dent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ulpoliti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gnjišta kalcifikacije u pulpi nepoznatog uzroka, kod stariji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zličitog oblika, solitarna ili multipla, 2-3 mm, oštro ogranič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Skleroza pulpe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fuzno zasenčenje unutar zubne duplje nepoznatog uzrok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(10-20 i 50-70 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Hipercementoz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4508280"/>
            <a:ext cx="706752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ekomerno nagomilavanje cementa oko dela ili čitavog korena zub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li blago nepravilna akumulacija cementa na apexu kor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amina dura i periodontalna linija očuv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gresivna promena koja se manifestuje prekomernim deponovanjem cementa na korenu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zroci:   periapikalne infekcije, povećan okluzalni pritisak, Padžetova bol., hiperpituitariz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04624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ati bezubost kada nema dejstva okluzalnih sila koja se prenose putem vlakana periodonciju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ezubost jednog zuba, levkasta resorpcija alveolarnog greb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uz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veća bezubost, kortikalna lamina očuvana ali jako tank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 mandibuli bradni otvor može da leži na gornjoj površini alv. nastav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esorpcija alveolarne kosti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2362320" cy="26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1" name="Picture 3" descr="I Neurology 1"/>
          <p:cNvPicPr/>
          <p:nvPr/>
        </p:nvPicPr>
        <p:blipFill>
          <a:blip r:embed="rId2"/>
          <a:stretch/>
        </p:blipFill>
        <p:spPr>
          <a:xfrm>
            <a:off x="2050920" y="3068640"/>
            <a:ext cx="2406960" cy="2666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2" name="Picture 4" descr="lopta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4427640" y="1125360"/>
            <a:ext cx="718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uveniln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 mladih, znaci zapaljenja minimalno izraženi sa brzom destrukciom alveolar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ećan nivo pojedinih hormona u gingivalnoj teč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hvaćeni sekutići i prvi kutnjaci, džepovi do 10 mm.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Gener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od starijih adolescenata, jaki znaci zapaljenja i zahvata sve zube, generalizovana i znatna destrukcija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9" descr="parodontopatija4"/>
          <p:cNvPicPr/>
          <p:nvPr/>
        </p:nvPicPr>
        <p:blipFill>
          <a:blip r:embed="rId1"/>
          <a:stretch/>
        </p:blipFill>
        <p:spPr>
          <a:xfrm>
            <a:off x="1332000" y="3213000"/>
            <a:ext cx="2448000" cy="21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rzo napredujuć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vak juvenilnog kod osoba 20-35 g. Visok nivo antitela na G - (Actinobacillus, Bacerioi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rzo napredujući vertikalni gubitak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parodontopatija3"/>
          <p:cNvPicPr/>
          <p:nvPr/>
        </p:nvPicPr>
        <p:blipFill>
          <a:blip r:embed="rId1"/>
          <a:stretch/>
        </p:blipFill>
        <p:spPr>
          <a:xfrm>
            <a:off x="1692360" y="1844640"/>
            <a:ext cx="2016000" cy="17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dultn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liferacija marginalne gingive, koštani džepovi i gubitak normalnog gingivalnog pripoja, nivo alveolarne kosti ispod račve korenova, migracija zuba sa stvaranjem dijastema, parodontalni apsces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1 f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ominiraju kl. znaci hiperemija i krvarenje na dod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subgingivalni konkrem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fotografije-za-tekstove-recesija2"/>
          <p:cNvPicPr/>
          <p:nvPr/>
        </p:nvPicPr>
        <p:blipFill>
          <a:blip r:embed="rId1"/>
          <a:stretch/>
        </p:blipFill>
        <p:spPr>
          <a:xfrm>
            <a:off x="826920" y="1628640"/>
            <a:ext cx="3384720" cy="232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2. Bla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gresivnije zapaljenje gingive koje zahvata dublje slojev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ingivalni džepov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lago zaravnjenje interalveolarnih sept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skretno proširenje periodontalne linije uz vrat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ortopan 3"/>
          <p:cNvPicPr/>
          <p:nvPr/>
        </p:nvPicPr>
        <p:blipFill>
          <a:blip r:embed="rId1"/>
          <a:srcRect l="54365" t="14509" r="11211" b="4840"/>
          <a:stretch/>
        </p:blipFill>
        <p:spPr>
          <a:xfrm>
            <a:off x="611280" y="2565360"/>
            <a:ext cx="35938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8" descr="rtg3"/>
          <p:cNvPicPr/>
          <p:nvPr/>
        </p:nvPicPr>
        <p:blipFill>
          <a:blip r:embed="rId2"/>
          <a:stretch/>
        </p:blipFill>
        <p:spPr>
          <a:xfrm>
            <a:off x="971640" y="404640"/>
            <a:ext cx="3457440" cy="26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3. Umere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zražena resorpcija ineralveolarnih septi i gubitak kortikalnih lamina u njim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širenje periodontalne linij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oštani džepov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paradontoza"/>
          <p:cNvPicPr/>
          <p:nvPr/>
        </p:nvPicPr>
        <p:blipFill>
          <a:blip r:embed="rId1"/>
          <a:srcRect l="2015" t="2612" r="1440" b="3483"/>
          <a:stretch/>
        </p:blipFill>
        <p:spPr>
          <a:xfrm>
            <a:off x="611280" y="549360"/>
            <a:ext cx="3889440" cy="29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8" descr="paradont 02"/>
          <p:cNvPicPr/>
          <p:nvPr/>
        </p:nvPicPr>
        <p:blipFill>
          <a:blip r:embed="rId2">
            <a:lum bright="6000"/>
          </a:blip>
          <a:srcRect l="2178" t="5427" r="2099" b="2764"/>
          <a:stretch/>
        </p:blipFill>
        <p:spPr>
          <a:xfrm>
            <a:off x="611280" y="3500280"/>
            <a:ext cx="3889440" cy="29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71640" y="3789360"/>
            <a:ext cx="7200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4. Progresiv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ivo gingive u visini sredine korenov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ivo alveolarne kosti u apikalnoj polovini korenov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ifurkacija korenova izvan alveolarne kost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amina kortikalis razor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eriodontalna linija prošir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ećana transparentnost kosti (preko 3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8:46:26Z</dcterms:created>
  <dc:creator>Sony</dc:creator>
  <dc:description/>
  <dc:language>en-US</dc:language>
  <cp:lastModifiedBy>Milan Mijailovic</cp:lastModifiedBy>
  <dcterms:modified xsi:type="dcterms:W3CDTF">2024-08-29T09:10:57Z</dcterms:modified>
  <cp:revision>46</cp:revision>
  <dc:subject/>
  <dc:title>Bolesti zuba</dc:title>
</cp:coreProperties>
</file>